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67C-69C5-4ADA-AABF-F2CDDFA9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2AC-46A7-430D-8530-8496AFE6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5F3-F0B7-48DE-B856-BC13E19D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225-C52F-43F8-9653-99470087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9169-596E-4EFC-8C14-27DF9264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403C-12A4-4D2A-82A0-49DE662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F538-7F3B-4167-BE40-F121A863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0726-FAC1-45C7-B201-C8A37FC2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5E71-6D15-489C-AD57-8C2AFA47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292E-5BDB-4643-A7AD-5D57B24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4CEB-7086-42B6-845D-BDFA93C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6FE-FA7A-4562-888E-1B2C943E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E978-53F4-427B-A70A-01804754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F5C9-AA55-4FF7-AEE5-45FA69D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9038-C45D-4277-A696-39796D72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27EA-4E02-4088-A9F5-ACE12BF2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51A1-63D2-4C59-BF8C-78600DB9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899-D6E0-4A15-8848-C0D970E5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BB4-9F27-4B2C-BD0C-969648DF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15E-F68D-4B70-A28C-58159A3E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C6C-F071-4B1D-86B2-981DBB12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86C-D368-4540-ABCF-F1B56C0F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F77-5557-4A84-8F05-C955FA20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CD4-ACFA-4863-9B92-51875C5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8FDF-E4F0-4323-8114-5B15B9805B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8546-73DE-4484-B726-19D42F7983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Clase 6NH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1 de octubre del 2012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Verdana"/>
              </a:rPr>
              <a:t>Propósito # 10: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Cómo repasamos para la prueba del Repaso 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PIA y completa con la forma correcta del verbo “Ser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Juan y Elena no _____ de Hondur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ngelo y yo ______estudiantes de españo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avid y tú _______ alt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ndrea ______ simpátic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o ______ norteamerican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Sierra _______ de la Republica Dominica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75960"/>
            <a:ext cx="7313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a: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PIA y responde en oraciones complet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De dónde er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En qué escuela eres alumno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Es fácil o difícil el español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Son inteligentes los estudiant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Son ustedes alumnos en una escuela grande o pequeñ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Quién es la profesora de histori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 the correct form of the verb S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ted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sotro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Él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ted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lo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l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la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rea # 10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23:06Z</dcterms:created>
  <dc:creator>Helen Zumaeta</dc:creator>
  <dc:description/>
  <dc:language>en-US</dc:language>
  <cp:lastModifiedBy>Helen Zumaeta</cp:lastModifiedBy>
  <dcterms:modified xsi:type="dcterms:W3CDTF">2012-10-11T13:26:13Z</dcterms:modified>
  <cp:revision>10</cp:revision>
  <dc:subject/>
  <dc:title>Me llamo __________   Clase 6NH La fecha es el Primero de febrero del 2012</dc:title>
</cp:coreProperties>
</file>